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C3529-559D-4DE4-BD1A-D63CD73C8B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7F8BF-5E0E-4EE0-A60C-9E553D82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C6EC3-6AE0-4BE3-A4D0-75E65613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5B095-420D-4B0E-B911-7C1271DDD5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1BFB2-0047-42A1-A82D-41E3919B60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85677-AA3F-4B25-BF25-E3558EFC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494B1-8E41-42F0-A0E1-034C8794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AA65C-0728-494B-BFFB-9218A105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7697F-C036-4CCC-8FA3-D66DBB31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B1D9A-A9E7-4EF5-B8CC-1D3000DE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0EFFA-D441-4BE6-AB2A-69D484CB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CC6A3-D9C5-47AE-956B-79A0BDEE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BF90B-7C3F-415C-8E2E-7976ADBB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2F15D-9D93-4CD3-857A-72A4F321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0FF0F-EE2E-4CBF-B733-6A957D5F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652EC-BBAF-459C-BC56-25D987D3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B0EEC-EF2E-4AE4-9574-9239A1C992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B6F3-5690-4DC3-BA09-A7850067C9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E300-C9A7-4003-8EDD-62F00F93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4769-3816-4F65-B885-D1684718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85FB-01BD-44A3-9585-F0ECA4FB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CFDC-C760-405B-9FC9-1ED9835B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31A4F-9D4C-4A5E-82E9-250A7EE4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C0A5-F7FF-45A5-BB34-905A1AE6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3648-CE9E-4750-BFAF-8E441F7E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771C-1607-48E9-929F-4E53595F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C977-0877-47A7-97AC-011764CE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51EF-BA42-4EE7-91F4-79EEF4A1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0BC5-FAB7-40A6-98CB-83147CC9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3ED3-07E5-40D9-A42D-79A9B3EEE1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1A86FD-BECC-4562-A78A-A82534C808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D23053-CE95-4D53-9B8F-8435C28B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CD114B-9F7D-4B16-B3FB-CFD54D25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E6F8D-3CB4-4E8F-9554-BC3D9124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E5C104-9B6D-4B62-A7C5-A7E3105F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3B6A67-26B7-46EA-A7F1-172FD3EC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07EAC-41BC-4342-B1C4-F46FE860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CB130-F673-428A-993C-F660E025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9C3756-9E58-49DA-AEDE-6ED3E7DF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A9620F-C830-4720-B0A4-CED0A416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5CD637-3B96-43E6-8F13-CAD9BDCF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F824C5-35D6-4FA1-9516-DA8BDD6C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A98E2-2219-43C6-AD03-F21B32BAD0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89D309-5FD1-4593-9D6A-B29B47359F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0DAF7-5558-4666-9084-8A5CE187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696C30-8A00-4B61-8B8F-DF5D2866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567C80-EC82-4678-BFA3-78D41AA9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3C9643-70A5-4144-8CAA-037DEF0C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393909-1EBD-4797-93EE-7D83A98C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B6EA67-FD07-4A1D-93BD-E5C593E6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6B9B62-68D5-407D-8C09-7E0C4AFD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1172B1-726E-49BE-9363-7D01EBFC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009E67-4C0C-4828-BF5F-47BE4812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0B2A15-FC46-47CF-8AD1-DB14C532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B12A09-B9B7-408B-BCE8-0DF9C1C4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27BEC-E9A1-4B0A-B564-21EA3E0C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6120E3-575B-43F3-9849-D93419DB13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550F8-BCA0-4B85-BD97-D1EC5DD14B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75B68-9A1F-4EB8-A87D-06B15848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41676-073D-4DE5-A841-917D4C43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EF252-28AA-42D7-A9FC-8632D82F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1A831-5FA4-4351-B9A8-BFD1D5EE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314BB-D9EC-468B-BD07-0EE7178A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56A91-862D-4C2F-A819-27D80B79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CD470-0FA9-48D6-8E32-E7383C3C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128C0-F3E3-465D-A643-8C05515E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C74D5-211A-4C70-83A5-A81BE9DD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EA0CD-9E92-4B8E-931F-7EB14F67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1D755-2D83-47E4-9B3D-2C1191B9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8809A-AD3D-40D4-B447-5424937047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FF8E30-94F3-4528-848E-D771CBC30A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D8CE02-9258-44F1-8349-0911195A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D83AD2-F8CF-4FE6-9721-A995C494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69AF52-8955-4AE1-AB35-76E9D496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016255-78F6-4FAA-9654-E5433E3B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628833-D8A0-4E94-B496-3FF17F64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B1827C-4CAE-45CB-AF4E-FC3BE58A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49253-72A1-4DA6-AA16-1AC4C289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8792D8-BA19-4834-A6FB-7C87FCD5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E3D77B-E5B6-4713-BCFC-2D3DE2E5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DD488B-DE4F-4A1E-A512-679AD037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671BBE-3AAB-4C60-8CA8-B026E25A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90CA00-A54A-4FB9-809C-F348A0A724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1160B-94D2-4883-BF1D-878D3EEC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C0B399-B582-45B2-8547-A778A4D0EEC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7B7E46-A9E5-479D-9D9D-0A4BD6EE1DA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30400" cy="223920"/>
            <a:chOff x="2163600" y="2809800"/>
            <a:chExt cx="230400" cy="22392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040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A6DF7A-7F8F-4FC6-B62E-DC2D351AD3C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350035-5F44-4DE1-8160-F841BCBED6C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056D50-A126-4847-81B5-8B79C744B0D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2FD6E0-4557-4037-9C5D-383A10EFD6C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2040" cy="4800600"/>
            <a:chOff x="646200" y="969840"/>
            <a:chExt cx="4802040" cy="480060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20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85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672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2FCED9-EC67-4EA3-A1AF-AE41574E80D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Из опыта работы</a:t>
            </a:r>
            <a:br>
              <a:rPr sz="4300"/>
            </a:b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 «Неделя финансовой грамотности в 5-11 классах»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3886200"/>
            <a:ext cx="7272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азанцева Лена Фаат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Учитель истории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обществозн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МБОУ «Большеусин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уединский 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14240" y="300024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285840"/>
            <a:ext cx="822960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Неделя финансовой грамотности в школе проводится второй г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Содействие повышению уровня информированности детей и молодежи по вопросам личных финансов , способствовать повышению навыков грамотного решения финансовых вопро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Главной мотивацией участия 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тей в мероприятиях Недели   становятся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ньги,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изданные организатором Недели. Все заработанные в течение недели деньги, можно было потратить на аукционе, предложив свою большую цену за това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лан недели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конкурс методических разработок Казанцева Л.Ф.МБОУ Большеусинская СОШ\Разработка Казанцевой Л.Ф.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214280" y="3286080"/>
            <a:ext cx="42148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Corbel"/>
                <a:ea typeface="Microsoft YaHei"/>
              </a:rPr>
              <a:t>Деловая игра «Юный бизнесмен»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</a:t>
            </a: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 Развитие финансовой грамотности обучаю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Суть игры: детям 5-11 классов предлагается продать за деньги, или обменять  изделия, выполненные своими руками: мыло, кольца и браслеты из бисера, изделия из бумаги, вышитые , связанные изделия и т.д. Наибольшей популярностью стали изделия из песочного теста, блины, пироги с яблоками и т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 актовом зале были поставлены столы, на которых расположились юные предприниматели. Цены были оговорены заранее, реклама изделий выполнена учащимися и помещена на этажах шко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о время больших перемен ребята продавали свои изделия  школьникам, работникам школы. Наибольшую прибыль получила девочка 6 класса, изготавливающая мыло ручной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28760" y="192240"/>
            <a:ext cx="2643120" cy="35128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929200" y="312840"/>
            <a:ext cx="2857680" cy="3797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2500200" y="1476360"/>
            <a:ext cx="378648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Мозгобатл «Деньги вчера , сегодня, завтра»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Интеллектуальная игра для учащихся 7-11 клас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1 Игра «Что?Где?Когда?», 2 игра «Отгадай рекламу», 3 игра – отгадай имя певца или название группы «Кто поет о деньгах», 4 игра «Отгадай кадр из фильма , где находятся деньг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Победители и призеры, а также участники в качестве призов  получают деньги, выпущенные организатором неде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285920" y="237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071960" y="642960"/>
            <a:ext cx="4214880" cy="5619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1857240" y="3738600"/>
            <a:ext cx="2340000" cy="31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Школьный тур олимпиады по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Функциональную грамотнрсть\фг 7-9 класс.pdf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Функциональную грамотность\задания по ЧГ 5-6 классы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одведение итогов Недели. Аукцион.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000680" y="642960"/>
            <a:ext cx="3357360" cy="4476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071720" y="117324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6143760" y="3429000"/>
            <a:ext cx="2463840" cy="32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52:50Z</dcterms:created>
  <dc:creator>Acer-Kab-10</dc:creator>
  <dc:description/>
  <dc:language>en-US</dc:language>
  <cp:lastModifiedBy>Пользователь Windows</cp:lastModifiedBy>
  <dcterms:modified xsi:type="dcterms:W3CDTF">2022-11-24T16:56:17Z</dcterms:modified>
  <cp:revision>8</cp:revision>
  <dc:subject/>
  <dc:title>Из опыта работы  «Неделя финансовой грамотности в 5-11 классах»</dc:title>
</cp:coreProperties>
</file>